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35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6D7-8CDA-443D-8079-E2A027E2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1BA-923A-4D5A-8B51-03C04F8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170-7C04-4200-87F9-04B663EE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E55-0BB9-4CF2-9FBD-90F0E438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1C3-EB56-4DB3-B4DC-0AA06808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147-1FD1-473C-A81B-31A44F8D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A51-5B5F-4D88-A6F5-ECE8539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F69-6E0F-41DF-B690-ED38054E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279-8669-412F-B051-1EFD9AF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CD7-3FA2-406F-95A9-426D67E7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771-3F4C-44BA-ACFF-3B3B462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390-3315-421C-BF1E-47D7CE9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8A4-E099-4F5A-8645-ED7E9121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6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productos alimenticios en una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286160" cy="262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438640" cy="306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3886200" cy="244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95680" y="3200400"/>
            <a:ext cx="4213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52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2771640"/>
            <a:ext cx="666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63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58428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5bkC8Ul0zww&amp;feature=list_related&amp;playnext=1&amp;list=MLGxdCwVVULXeo5BtOxBQmZRIzxG42Yx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hace la compra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refieres los supermercados o los mercados tradicionales al aire libre? 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701720" cy="17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82840" cy="191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2174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idas-</a:t>
            </a: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(Me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comes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omes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tu comida más grande de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5029200"/>
            <a:ext cx="183996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90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piensas? ¿Qué crees?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 en Esp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piensas que una persona come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español come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los españoles comen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rees que comen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comen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su comida más grande del día? ¿Qué pien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133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omidas en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timing of meals in Spain is quite different from the rest of Europe and US and may surprise you. Breakfast is usually served between 9 and 11 and it is commonly quick and simple.  A midmorning snack is common between 11 and 12.  Lunch is the main meal.  It starts around  around 14.00 and lasts until 16.00 or even later if it is a family gathering or special occasion.  (This usually is very late for most foreigners.) Dinner is also generally taken late, from 9.00 onwards.  Most restaurants open at 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or even 9.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  Service is usually included in the bill so tips are not required; however, if the service and the food are good you may leave an additional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ar una canci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ó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ATA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ndero sin son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te metes en las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co el pito y el 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u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oril y casc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repet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57880" y="1459080"/>
            <a:ext cx="1814400" cy="166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80280" y="4011480"/>
            <a:ext cx="2367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. 28 10ª ¿Con qué países asocias estos product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fé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rtil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íjole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riz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anj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qu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ción ¨Hoy es lunes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ira las comidas típicas de Méxic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¿Qué signific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hambre.-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mos a Comer-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a vamos a ca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REA PARA EL VIERNES EL 10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Lección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do el paqu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Memorizar la comida (usa las tarjetas verdes para m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ueba la p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óxima cl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Quiz on these foods next class…see p.24 en your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-Libro Azul Ab Initio (Blue Abinitio Boo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p. 151, 152, 153…Read dialog and answer comprehen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ver las fotos de Andaluc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escribir debajo de cada foto una(s) palabra(s) que corresponde a la f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daluc</a:t>
            </a:r>
            <a:r>
              <a:rPr b="0" lang="es-ES" sz="4400" spc="-1" strike="noStrike">
                <a:solidFill>
                  <a:srgbClr val="000000"/>
                </a:solidFill>
                <a:latin typeface="comic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20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57680" cy="30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3733920"/>
            <a:ext cx="4229280" cy="281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9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962520" y="0"/>
            <a:ext cx="2084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66840" y="304920"/>
            <a:ext cx="4348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915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1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3809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256200" cy="32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3743280" cy="237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41:06Z</dcterms:created>
  <dc:creator>wanda.snowfrost</dc:creator>
  <dc:description/>
  <dc:language>en-US</dc:language>
  <cp:lastModifiedBy>wanda.snowfrost</cp:lastModifiedBy>
  <dcterms:modified xsi:type="dcterms:W3CDTF">2010-12-07T02:43:44Z</dcterms:modified>
  <cp:revision>6</cp:revision>
  <dc:subject/>
  <dc:title>Andalucia</dc:title>
</cp:coreProperties>
</file>